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1F4-9EE6-430C-9BCB-7133F305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FFB-6E71-442A-9BE8-BA68D297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014-0724-4512-8C02-F84FAC16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4A4-1819-4BA9-817B-0ABB921C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8DBE4-21FD-4FC5-893D-CEAD5867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A1B8B-BE70-4A4E-B34D-B0225B38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4BEF6-798F-48FB-B09F-AB2ED620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6AC13-9830-44F1-9081-436A49D1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4936D-9769-467D-9DB0-768F7C54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4362C-D658-4237-8793-AB7C4C76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E7A8-102D-497C-B4E1-1A4E66A3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CBA-9431-4CB1-BAE2-1B77434A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CB7EB-74AF-4B18-9CB6-C3D77EB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73013-563A-48DF-8FF5-0D255C8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1381F-5C3E-41FC-8760-E7B087D9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19407-97DE-4C8C-A0AA-69BB4172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A8731-844F-4F98-A4F1-1A7A0BD2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06A-EB21-464A-B79D-9811ABAD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315-3745-4D7A-BC53-7607AAF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3EE-F00A-48F3-BB5A-FC08840B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E55-E68D-4F74-925C-3E022124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AC6-21CC-43C8-9704-3984B67B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300-C33F-463A-B9CA-E256F5B1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D9F-00AB-4436-A7A3-21EA8382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64D7-3439-4D5F-92CB-12BE2065B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E57C-D025-4D08-919F-06EC79898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NATATEA PLANETEI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NATATEA NOAST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itorul planetei depinde de t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ei sa faci ceva pentru a-l salv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UAREA AERULU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isii de fum si gaze tox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isii de dioxid de carb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a incalzirea globala-efectul de se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UAREA SOLULU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grasaminte chim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tic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uri menaj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uri industri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te radio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1880" y="2700360"/>
            <a:ext cx="4029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UAREA APE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te chimice rezultate ca urmare a activitatilor industri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te radio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te si deseuri rezultate din activitatile gospodare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444760"/>
            <a:ext cx="4038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MBATEREA POLUAR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 SI REGULAMENTE INTERNATIONA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I CARE LUPTA IMPOTRIVA POLUARII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ULAREA DE PROGRAME REGION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CATIA ECOLOGICA A POPULATI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A ECOLOGICAIN SCO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POT FACE EU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 curatenie in jurul me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unc gunoaiele in locuri special amenaj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tez flori si copa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au atitudine cand altii poluea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 desene, afise, spectacole pentru a-i sensibiliza pe cei din j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91628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8400" y="1905120"/>
            <a:ext cx="247644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83280" y="1905120"/>
            <a:ext cx="2967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5:54:55Z</dcterms:created>
  <dc:creator>cursant</dc:creator>
  <dc:description/>
  <dc:language>en-US</dc:language>
  <cp:lastModifiedBy>cursant</cp:lastModifiedBy>
  <dcterms:modified xsi:type="dcterms:W3CDTF">2010-09-02T08:34:44Z</dcterms:modified>
  <cp:revision>15</cp:revision>
  <dc:subject/>
  <dc:title>POLUAREA  MEDIULUI</dc:title>
</cp:coreProperties>
</file>